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F66E-6CF2-469A-A680-29826D33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5E43-70EF-4C05-A70E-A5BF353F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601-FD47-4E9F-9800-3543AE6D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BF8C-7276-463A-974D-BB43B197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EA96-83F1-4E40-80FF-A260F76F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9C9-A9F7-495C-B490-A0FCADF8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3FC-A169-4A85-BA60-0375D640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37A-4DBB-4ECE-B587-D111BB38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F3C-8FF1-4881-B287-63EACFC5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EC1C-8C0D-449F-90BB-7D7CC300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01FC-FF3C-4A2E-A588-0663AEFF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42C-9A2D-4F78-AB43-F3375CA0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0379-40D1-4828-8D68-7D2FB2AE8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676520"/>
            <a:ext cx="838224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ilding Linear Functions from Data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 Var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762120"/>
            <a:ext cx="800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data for the National League during the 2004 baseball season, select two points and find an equation of the line containing the points.  Then graph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55440"/>
            <a:ext cx="617220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3200" y="685800"/>
            <a:ext cx="9010800" cy="1514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28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8-01-21T02:06:13Z</dcterms:modified>
  <cp:revision>4</cp:revision>
  <dc:subject/>
  <dc:title>Slide 1</dc:title>
</cp:coreProperties>
</file>